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562-D73B-45E2-9BB3-E927AC73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D44-EF3D-418F-BC3D-1CE67D2C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CBA-865F-49AB-8941-5F3D14C0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C5D-D319-4236-9B20-F119CD52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626-C496-45A6-9447-DAE3AAF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EA4-E4F3-4B52-A44A-A476E60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0A1-5409-493F-BA51-E8772C31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C3C-6BBF-4714-8AAA-B34A22AF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77C-4AB8-4DFA-958B-361A194F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E9A-591E-475B-B2CC-D33527E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290-E021-4DF1-9F37-32000B18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08F-1BC4-4FAD-9327-1A49C3AF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0D865-0C2A-42EA-A783-CCCD504B0F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FCA31-9ED2-4E47-B247-55074319B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44480" y="33660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44480" y="237960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744480" y="463716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5126040" y="33660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5"/>
          <a:stretch/>
        </p:blipFill>
        <p:spPr>
          <a:xfrm>
            <a:off x="5126040" y="237960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5126040" y="4637160"/>
            <a:ext cx="3200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3840" y="266760"/>
            <a:ext cx="4178160" cy="194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93840" y="2457360"/>
            <a:ext cx="4178160" cy="194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393840" y="4665600"/>
            <a:ext cx="417816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4965840" y="266760"/>
            <a:ext cx="4178160" cy="1942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5"/>
          <a:stretch/>
        </p:blipFill>
        <p:spPr>
          <a:xfrm>
            <a:off x="4965840" y="2457360"/>
            <a:ext cx="4178160" cy="194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6"/>
          <a:stretch/>
        </p:blipFill>
        <p:spPr>
          <a:xfrm>
            <a:off x="4965840" y="4665600"/>
            <a:ext cx="4178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06440" y="276120"/>
            <a:ext cx="4165560" cy="193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06440" y="2463840"/>
            <a:ext cx="4165560" cy="193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06440" y="4616280"/>
            <a:ext cx="4165560" cy="193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4572000" y="276120"/>
            <a:ext cx="4165560" cy="193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5"/>
          <a:stretch/>
        </p:blipFill>
        <p:spPr>
          <a:xfrm>
            <a:off x="4572000" y="2463840"/>
            <a:ext cx="4165560" cy="193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6"/>
          <a:stretch/>
        </p:blipFill>
        <p:spPr>
          <a:xfrm>
            <a:off x="4978440" y="4616280"/>
            <a:ext cx="416556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04920" y="331920"/>
            <a:ext cx="4267080" cy="190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04920" y="2476440"/>
            <a:ext cx="42670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304920" y="4694400"/>
            <a:ext cx="426708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4572000" y="331920"/>
            <a:ext cx="4267080" cy="190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4572000" y="2476440"/>
            <a:ext cx="42670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6"/>
          <a:stretch/>
        </p:blipFill>
        <p:spPr>
          <a:xfrm>
            <a:off x="4572000" y="4694400"/>
            <a:ext cx="4267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79440" y="252360"/>
            <a:ext cx="3048120" cy="138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79440" y="2044800"/>
            <a:ext cx="3048120" cy="138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379440" y="3841920"/>
            <a:ext cx="3048120" cy="138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5551560" y="252360"/>
            <a:ext cx="3047760" cy="1384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5551560" y="2044800"/>
            <a:ext cx="3047760" cy="1384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6"/>
          <a:stretch/>
        </p:blipFill>
        <p:spPr>
          <a:xfrm>
            <a:off x="5551560" y="3841920"/>
            <a:ext cx="3047760" cy="138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7"/>
          <a:stretch/>
        </p:blipFill>
        <p:spPr>
          <a:xfrm>
            <a:off x="379440" y="5473800"/>
            <a:ext cx="3048120" cy="1384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8"/>
          <a:stretch/>
        </p:blipFill>
        <p:spPr>
          <a:xfrm>
            <a:off x="5551560" y="5226120"/>
            <a:ext cx="30477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5:23:06Z</dcterms:created>
  <dc:creator>Silvia Ferreira</dc:creator>
  <dc:description/>
  <dc:language>en-US</dc:language>
  <cp:lastModifiedBy>Eduardo da Silva</cp:lastModifiedBy>
  <dcterms:modified xsi:type="dcterms:W3CDTF">2012-09-19T18:11:43Z</dcterms:modified>
  <cp:revision>1</cp:revision>
  <dc:subject/>
  <dc:title>Slide 1</dc:title>
</cp:coreProperties>
</file>